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dt" idx="2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2989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ftr" idx="3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 type="sldNum" idx="3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F5FA-2A57-4C3D-9B83-033DC8BAB1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5330-CCF0-4ABB-999B-84EC11DA86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E3C0-3A0E-40B8-A4B5-F8196DAD10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C71C-E573-462A-8844-9A9EDA9B3D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39F0-CEC0-4159-A8AF-DBD4C70F75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2EF4-02CC-41BA-A1ED-A6DCBE3FBA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BD4F-AF60-4EAE-BFF6-DE450CE73C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E87D-67C8-42DB-AAFE-195C4CB3A2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0BF1-404E-4589-9262-EA78E22054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0376-33E4-4B4F-81C6-9D3D4B147F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0A48-734C-4BB2-9E5A-14C57FF3C7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A660-E44E-450D-976A-C061988C42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5F63-84D3-45B7-B99A-E746D4A08A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B0B0-CC62-43B6-8EF9-5D1D3F555A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8661-11BB-4C71-9A4F-8C6384B33F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2B3A-F61E-43D6-BDFF-9005FF366E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E8D4-ED92-40DA-B510-C0B2A459C8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64D0-16F0-4FAA-9912-7AC6D7DC10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9ABD-3855-42DE-A0E3-7ACC821702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440" y="40107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81B0A5-8E4B-4763-ACD9-ED200F5E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9EBE32-60AF-471A-A7D7-5AA16992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68544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5361E6-6177-49E9-A79F-F8578303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44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6AEAC0-94F7-4172-92A1-3AB4D64E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78512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63689E-F4C3-429D-B8E9-2849F30C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440" y="40107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44DA2F-97A1-46FA-83E3-D584512D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85440" y="40107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4E2031-647B-4D0F-B70C-67A9985D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44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78512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6D1253-3608-4DD4-A63D-ABA40F8C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39084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624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8544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39084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9624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A04636-A2F0-44B2-AD30-BD14897B8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F4F6B4-CD3C-4925-B860-D3FB8108C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8512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AD9D03-8D2F-41FF-BD6F-8E407EF7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A89C50-AFE0-4236-9164-CC3636C5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9561C9-31AF-410F-8169-812DB6C8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7D8136-AEB2-4EEF-95B6-A1510318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44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2C40B1-D11C-4488-BC1C-B2F9DC7D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44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0B0390-8B5F-4CBD-9E2F-A14FCA8A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78512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0949FB-6DF7-4D7A-82C8-459AFF7E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440" y="40107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951B6D-E436-4C6E-BD12-203DC91A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440" y="40107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EC3231-FC39-4363-8224-1D96279C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44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78512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621E69-7D15-498D-B5E7-0A5B34673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9084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624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44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9084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9624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9084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624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44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9084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9624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FDE3DB-A4D5-4613-A6EA-D551D558B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930730-B7AE-4F98-B6BC-6E5ACDF7F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902F56-1457-477C-A087-1C91438E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7ABD65-570B-4125-8F83-BD8A0687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9BEAC8-CB82-4706-82D6-C685E6DD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5F7EFD-4B08-4D4D-9ACF-DABBABDE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68544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D17F4D-46AE-405B-9C33-4F619E41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44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28A391-47A7-4841-B3EE-784F595C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78512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728390-ECD6-4A56-8B70-851280C9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440" y="40107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81F039-9CBF-4E50-9955-D9A54776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85440" y="40107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6AA4B0-024C-4073-962F-E802BB81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44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78512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E8ECA8-F10F-4ADD-80A9-178A57899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39084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624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8544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39084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9624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134172-2E15-4327-93FA-1F52D7C7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44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44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8512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40107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440" y="40107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8512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9084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624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44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9084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9624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E0DA3-5383-43AF-9793-9A9B9134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2638F-3D0A-4695-8EAA-6C165104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C7111-9574-40F1-BE0F-75049103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5496E-CE14-46FD-9DD7-1E4E88F7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4BC58-6CF1-49B4-B03F-4BB27CD6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44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792BD-27C8-46F1-8F38-ADD62096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44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75ADD-B13A-4605-AB1D-01813934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8512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26056-6E8C-4CE3-B0E7-479E709C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440" y="40107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6E3F0-4B61-4AF5-9118-3869A390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5440" y="40107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AAB84-0C71-4E3C-87AA-007BDC0A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44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78512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CAB39-C791-43D2-AE72-C9059ED66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9084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624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8544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9084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9624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82270-1799-4D63-B3E4-0D9E70A56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F1A749-96A0-476B-830D-C86C2FC05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E559A3-FF66-4779-9085-EFC0A39D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FABB7E-E543-475F-820F-4EED8CD8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A34623-E3B3-448E-884C-83259E47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2A605D-058D-4D8F-A8B7-08907256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8544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8D5F4A-D390-45D8-867C-5F8AF0AF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44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5016AC-287B-4E72-8B18-EA978409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512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1A196A-6556-4E2D-B934-E8F88F68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440" y="40107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AB587E-487F-44A1-8A1F-062BAEC2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85440" y="40107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2A1ABD-47BC-443F-9467-6C8BB372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44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512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0A1E17-0A83-4743-9791-AD62F606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9084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624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8544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9084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9624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9A9411-E596-44AF-94BE-D2C4786E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CBE451-DE7A-4D69-8480-03901606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CB0C90-8DD6-4505-8F82-C0600395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AC25A1-FEE3-436E-86DD-ABDDA1F6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54A0CE-89F0-4334-BF20-88EB243F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E4E90C-C184-49FA-A6F9-DCD79BE2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8544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6EF83D-888A-4949-9D48-027233CF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44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9771B0-1AF9-4F80-9B88-66D76C0A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78512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11EA2B-B78B-4940-8335-59C6870E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440" y="40107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1DFDBC-C6E9-47CF-AAA5-54A545F2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85440" y="40107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AE9EF6-FB84-4FB4-A1F5-617E519C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44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78512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2BD4B1-0F15-42BF-BDA3-0B4A33203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44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39084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624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8544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39084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9624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3BA9AB-63D5-4F9C-979D-BD8692EC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117AAC-0052-46F7-B23E-486FA65C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EBB338-AABC-40C5-90A5-DBC07008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C70316-C378-4555-BDE3-1CFDC769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07180A-0086-482A-A27A-515248F9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A01E40-F4CD-43CB-B607-5B58AF5E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68544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28654C-A8DF-48D5-91F2-31CB6722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44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F2E42F-DE6E-4136-A433-F7824F62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78512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BF0AA7-144D-4CA7-A087-EA721A7D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440" y="40107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440382-3393-4154-A527-08EE5771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44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85440" y="40107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9727CF-4899-4754-901E-0CC96C7B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44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78512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1CB3C4-C07D-4658-8B23-E5221CD9B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39084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624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8544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39084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9624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FF192C-FD3E-42AD-AAEA-6EECEA325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FB7AB6-B82C-4046-BD81-D49A0BFF8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0CF8B0-B916-4B0F-A5FF-DAF80ABB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75856C-91BA-40B7-8974-0B40243F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3D3AAA-1DB6-4ED3-AF83-12BF6D52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143FA9-FF01-4687-8926-E89D5515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44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D63B67-5CFC-4014-AB21-DCA2737B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44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5AF10A-A1E5-4571-AEEB-321CCBF6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8512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78512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A5E706-2855-4643-956D-319BEC4B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440" y="40107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36933E-72E3-4A61-A37E-B9B141F2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440" y="40107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342B34-477E-4800-891B-4E4F4662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44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78512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9F19F2-4785-4BCB-BC75-5E1C9AB5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9084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624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44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9084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9624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7893BF-335E-4A56-B797-66AF2F3F0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3FA257-A86D-4D3C-B0AF-195B035EC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B35B22-92DC-437B-B798-46E8EBC8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78D09F-A8DB-44E9-95D9-EDC80769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1AA985-E411-4F56-966F-7934DCCC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30A314-F8FE-47CF-9731-54B5800C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40107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8544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5BFCB1-522B-44AA-B55E-24914D63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44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19895C-5ACA-4379-9188-62999BCB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78512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63E013-8802-4C3D-A809-7F1D9E2B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440" y="40107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89B198-5CA1-4822-9CC5-ED7AF03A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85440" y="40107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336769-3299-43D1-97F6-8C297015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44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78512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F89B7D-3FF5-4252-989B-32780587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39084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624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8544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39084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9624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A615B7-95DD-4241-8F6E-0B6A36EBB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DF328F-577F-42C0-96E9-12309F3B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BFA5F8-365A-4A1B-B318-E6423398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67AB0A-680C-4006-A0AF-FD9F60F4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298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5929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5929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59298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298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5929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5929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59298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3EFC-CB33-45F2-B085-D97F56ED111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298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5929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5929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59298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EE79-46BD-40F2-9D55-8EED33A5F6E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298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5929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5929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59298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298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5929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5929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59298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328D-42E9-4D5C-8BC5-60729E8C830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298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5929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5929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59298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73FF-855A-4EEE-BA9E-D8CA3FF11D1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298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5929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5929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59298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057A-DE52-4C47-89BA-536C21DADA2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298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5929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5929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59298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A7C6-ABDB-44D5-9703-5DF3DCB76DF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298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5929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5929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59298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859B-B2BD-45F6-82A0-18B8FCEF7F2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298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5929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5929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59298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BB5A-F1F5-44A4-AE4D-8BA8B5ABA4F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298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5929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5929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59298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B16B-7DBD-4285-8E91-1C3F44B7B1E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2989"/>
                </a:solidFill>
                <a:latin typeface="Calibri"/>
              </a:rPr>
              <a:t>Techniques For Leading Group Discussions</a:t>
            </a: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b29a"/>
              </a:solidFill>
              <a:latin typeface="Calibri"/>
            </a:endParaRPr>
          </a:p>
        </p:txBody>
      </p:sp>
    </p:spTree>
  </p:cSld>
  <p:transition spd="med" advTm="12000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2989"/>
                </a:solidFill>
                <a:latin typeface="Calibri"/>
              </a:rPr>
              <a:t>You might lead a group discussion because:</a:t>
            </a:r>
            <a:endParaRPr b="1" lang="en-US" sz="40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68544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’s part of your job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’ve been asked to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discussion is necessary, and you have the skills to lead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was your idea in the first pl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2000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2989"/>
                </a:solidFill>
                <a:latin typeface="Calibri"/>
              </a:rPr>
              <a:t>Some people who might find themselves leading a group discussion:</a:t>
            </a:r>
            <a:endParaRPr b="1" lang="en-US" sz="40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685440" y="18284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ors of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 offic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alition coordin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fessionals with group-leading skil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lth professionals and health educ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ected community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ty activ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2000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2989"/>
                </a:solidFill>
                <a:latin typeface="Calibri"/>
              </a:rPr>
              <a:t>When might you lead a group discussion?</a:t>
            </a:r>
            <a:endParaRPr b="1" lang="en-US" sz="40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685440" y="18284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the start of something ne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an issue can no longer be ignor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groups need to be brought toge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an existing group is considering its next step or seeking to address an issue of importance to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2000"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2989"/>
                </a:solidFill>
                <a:latin typeface="Calibri"/>
              </a:rPr>
              <a:t>How do you lead a group discussion?</a:t>
            </a:r>
            <a:endParaRPr b="1" lang="en-US" sz="36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685440" y="11426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have the opportunity to prepare beforehan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ose the spac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food and drink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ing materials to help the discussion along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ome familiar with the purpose and content of the discuss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 sure everyone gets any necessary information, readings, or other material in plenty of time to study it well beforehand. 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2000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2989"/>
                </a:solidFill>
                <a:latin typeface="Calibri"/>
              </a:rPr>
              <a:t>General guidelines:</a:t>
            </a: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685440" y="18284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k about leadership sty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t people at e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lp the group develop ground ru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te an agenda or goals for the discus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2000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2989"/>
                </a:solidFill>
                <a:latin typeface="Calibri"/>
              </a:rPr>
              <a:t>Lead the discussion:</a:t>
            </a: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85440" y="13712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 the top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ster the open proc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olve all participa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k questions or provide information to move the discus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mmarize and/or clarify important points and conclus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ap up the ses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llow-up if necess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2000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2989"/>
                </a:solidFill>
                <a:latin typeface="Calibri"/>
              </a:rPr>
              <a:t>Do’s for discussion leaders:</a:t>
            </a: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685440" y="15238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 the behavior and attitudes you want group members to emplo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encouraging body language and tone of voice, as well as word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 positive feedback for joining the discuss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 aware of people’s reactions and feelings, and try to respond appropriate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2000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2989"/>
                </a:solidFill>
                <a:latin typeface="Calibri"/>
              </a:rPr>
              <a:t>More Do’s for discussion leaders:</a:t>
            </a:r>
            <a:endParaRPr b="1" lang="en-US" sz="40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685440" y="18284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k open-ended questi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 your own bias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ourage disagreement, and help the group use it creative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 a recorder if necessar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ep your mouth shut as much as pos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2000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2989"/>
                </a:solidFill>
                <a:latin typeface="Calibri"/>
              </a:rPr>
              <a:t>Don’ts for discussion leaders:</a:t>
            </a:r>
            <a:endParaRPr b="1" lang="en-US" sz="40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685440" y="9140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let one or a small group of individuals dominate the discuss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let one point of view override oth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assume that anyone holds particular opinions or positions because of his culture, background, race, personal style, etc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the same token, don’t assume that someone from a particular culture, race, or background speaks for everyone else from that situ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be the font of all wisd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2000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2989"/>
                </a:solidFill>
                <a:latin typeface="Calibri"/>
              </a:rPr>
              <a:t>What is an effective group discussion?   </a:t>
            </a:r>
            <a:endParaRPr b="1" lang="en-US" sz="44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914400" y="2133360"/>
            <a:ext cx="7391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c9b7"/>
                </a:solidFill>
                <a:latin typeface="Calibri"/>
              </a:rPr>
              <a:t>An effective group discussion is one in which the group is able to accomplish its purpose or to establish a basis either for ongoing discussion or for further contact and collaboration among its mem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2000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2989"/>
                </a:solidFill>
                <a:latin typeface="Calibri"/>
              </a:rPr>
              <a:t>The elements of an effective group discussion:</a:t>
            </a:r>
            <a:endParaRPr b="1" lang="en-US" sz="40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685440" y="15238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members of the group have a chance to speak, expressing their own ideas and feelings freely, and to pursue and finish out their though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members of the group can hear others’ ideas and feelings stated open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 members can safely test out ideas that are not yet fully form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2000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2989"/>
                </a:solidFill>
                <a:latin typeface="Calibri"/>
              </a:rPr>
              <a:t>The elements of an effective group discussion (cont.):</a:t>
            </a:r>
            <a:endParaRPr b="1" lang="en-US" sz="40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85440" y="16761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 members can receive and respond to respectful but honest and constructive feedba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ariety of points of view are put forward and discus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iscussion is not dominated by any one pers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2000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2989"/>
                </a:solidFill>
                <a:latin typeface="Calibri"/>
              </a:rPr>
              <a:t>The elements of an effective group discussion (cont.):</a:t>
            </a:r>
            <a:endParaRPr b="1" lang="en-US" sz="40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685440" y="15998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guments, while they may be spirited, are based on the content of ideas and opinions, not on personali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 in disagreement, there’s an understanding that the group is working together to resolve a dispute, solve a problem, create a plan, make a decision, find a precept or set of precepts all can agree on, or come to a conclusion from which it can move 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2000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2989"/>
                </a:solidFill>
                <a:latin typeface="Calibri"/>
              </a:rPr>
              <a:t>Possible uses for a group discussion:</a:t>
            </a:r>
            <a:endParaRPr b="1" lang="en-US" sz="40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685440" y="15998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a new situation – form a coalition, start an initiative, etc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ore cooperative or collaborative arrangements among groups or organiz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 and/or analyze an iss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a strategic plan – for an initiative, an advocacy campaign, an interventi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 policy and policy chan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2000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2989"/>
                </a:solidFill>
                <a:latin typeface="Calibri"/>
              </a:rPr>
              <a:t>Possible uses for a group discussion (cont.):</a:t>
            </a:r>
            <a:endParaRPr b="1" lang="en-US" sz="40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533160" y="15238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r concerns and differences among individuals or grou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ld public hearings on proposed laws or regulations, development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ide on an a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mutual sup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olve a confli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 your work or an event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2000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2989"/>
                </a:solidFill>
                <a:latin typeface="Calibri"/>
              </a:rPr>
              <a:t>Why should you lead a group discussion?</a:t>
            </a:r>
            <a:endParaRPr b="1" lang="en-US" sz="40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685440" y="15998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oup discussion gives everyone involved a voic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oup discussion allows for a variety of ideas to be expressed and discussed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 discussion is generally a democratic, egalitarian process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oup discussion leads to group ownership of whatever conclusions, plans, or action the group decides upon.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2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2989"/>
                </a:solidFill>
                <a:latin typeface="Calibri"/>
              </a:rPr>
              <a:t>Why should you lead a group discussion? (cont.)</a:t>
            </a:r>
            <a:endParaRPr b="1" lang="en-US" sz="4000" spc="-1" strike="noStrike">
              <a:solidFill>
                <a:srgbClr val="592989"/>
              </a:solidFill>
              <a:latin typeface="Calibri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85440" y="18284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effective group discussion encourages those who might normally be reluctant to speak their mi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 discussions can often open communication channels among people who might not communicate in any other way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2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some cases, a group discussion is simply the obvious, or even the only, way to proce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2000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20:18:16Z</dcterms:created>
  <dc:creator/>
  <dc:description/>
  <dc:language>en-US</dc:language>
  <cp:lastModifiedBy>Bright</cp:lastModifiedBy>
  <dcterms:modified xsi:type="dcterms:W3CDTF">2013-08-23T08:25:33Z</dcterms:modified>
  <cp:revision>5</cp:revision>
  <dc:subject/>
  <dc:title>Techniques For Leading Group Discussions</dc:title>
</cp:coreProperties>
</file>